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meow2.wav" ContentType="audio/x-wav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DAC-7544-4AAF-B84A-78F88B9A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DBA-84CC-4224-B7B7-47D2CD3F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19F-E78E-48EA-A19F-262FB752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D13-7490-4F46-97A4-2A9DAD92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277-F5A5-4108-BBB8-602AF61C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5C9-FC23-440B-AF3A-9BEF83CE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132-A984-4C01-89C3-1664A162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4C5-F403-4E03-B851-C9CFA3FE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B7F-8ADD-40F2-B4F7-F432327B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291-E8FE-48E3-94A9-C1AB1775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DDB-15B4-47A9-A2CB-E463D040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DA1-7473-42AA-ACB8-0F2A5313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01ED-60FA-4F87-BDD5-96BF84B02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audio" Target="../media/meow2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6880" y="990720"/>
            <a:ext cx="3373560" cy="178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Kitty  Tow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278520" y="54100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: Gen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1692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5920" y="307800"/>
            <a:ext cx="803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once was a town called Kitty T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that lived in the town  was cats.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st food to eat was tuna fis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whitecats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3357360" cy="297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370044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50840" y="196920"/>
            <a:ext cx="751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its play time they play with a ball of yar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yarn" descr=""/>
          <p:cNvPicPr/>
          <p:nvPr/>
        </p:nvPicPr>
        <p:blipFill>
          <a:blip r:embed="rId1"/>
          <a:stretch/>
        </p:blipFill>
        <p:spPr>
          <a:xfrm>
            <a:off x="1600200" y="2671920"/>
            <a:ext cx="4595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344760" cy="3886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6400" y="196920"/>
            <a:ext cx="728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its time for dinner they are ve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ss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52040" y="349200"/>
            <a:ext cx="77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its time to go to sleep they get i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beds and go to slee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t13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312444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8000" y="272880"/>
            <a:ext cx="80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it’s morning they eat their breakfa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eat soup for breakfa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33195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0120" y="196920"/>
            <a:ext cx="79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of the cats are safe because no oth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imals live there. One day a man came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tty T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1870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22720" y="349200"/>
            <a:ext cx="78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can’t stay here,”   said a cat.” Huh’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id the man, “I  ain’t afraid of nothing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25720" y="2133720"/>
            <a:ext cx="1214280" cy="327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flipH="1">
            <a:off x="4921200" y="3276720"/>
            <a:ext cx="201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69960" y="272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6400" y="577800"/>
            <a:ext cx="75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of the cats bit him and the man r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way. We took care of him.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1957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7T12:45:50Z</dcterms:created>
  <dc:creator>Carol D. Romines</dc:creator>
  <dc:description/>
  <dc:language>en-US</dc:language>
  <cp:lastModifiedBy>Jefferson County Schools</cp:lastModifiedBy>
  <dcterms:modified xsi:type="dcterms:W3CDTF">1999-03-18T16:07:50Z</dcterms:modified>
  <cp:revision>10</cp:revision>
  <dc:subject/>
  <dc:title>No Slide Title</dc:title>
</cp:coreProperties>
</file>